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6B1-C713-41D2-8EA1-D37F1C7E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30C-4EFB-48E7-80B9-C67BE18D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D5A-20B0-4E11-A991-1C2B2BCC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49A-74F3-4A5F-8030-9EE780E3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4C9A-A538-42BD-8468-FDF63409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E189-A20C-48D5-9D64-777EB1C4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10E5-CD28-423E-B9ED-FEAA594A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0BCF-B10F-4816-9D93-C3AA59ED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7838-B2C3-4129-8432-E22E2926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FEAC-5A35-46B9-AEC7-9641DA54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FB3E-4339-433A-AD13-14B4C90C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249-6030-4585-9BBA-EFB85271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E9DD-7CC9-4EBB-8220-7FD1F184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1F7F-1818-43C1-8619-FD6B6298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E985-3D2C-42A1-9277-B6C0A9A2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5D82-15F3-48A6-9CCD-5E0DB79D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B9C6-D5E0-45C9-AECC-82792C5F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DBDA9-7D68-4502-826A-3494B2D4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73DF-59FB-46D6-8E21-58FC4035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0DB82-C89D-41AA-BB12-D25F4B86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6D698-1B69-480F-A6F9-BF3AA479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C2BF-4A51-422A-87DA-F5BD173B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D0C-7090-4BB1-A2EA-FCD2EAAE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20FE-2693-43DD-94FE-3DFA3A0B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90310-EBD6-466F-8B51-1954DB19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3EEDB-101A-4564-A916-D4F3DADD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61370-D906-4635-A736-96F5829E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5F1AC-02EA-4F4A-A9ED-1F6B048F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6631D-9F32-471F-AD73-3517C253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45758-C85A-4325-8011-52476107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8294A9-ABD1-481C-AF21-67607C18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CAA297-680B-4E80-95A6-C4A0CDD5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399A0-97A9-445A-95E4-20787DCA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710-B444-4B68-B2AD-3F04A3C5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720F6B-2458-43BD-9027-4B894A1B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EE1FC-C7C5-48BB-BD11-ECC7CB11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3C837D-049F-4506-9FBD-38856425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CFEEC7-01FF-4DBC-AE8A-EB59543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CFDB4B-A6A1-4230-9C6B-BDD26857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27C4B4-FF91-4FAC-A2AF-BE1AD366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E915E8-F8FD-4BC9-BA5A-90CCBF90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7F37E9-DF91-4E77-A66E-757501F8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ED641A-9B70-49AF-82F4-4EA7831E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2B2BE-FDF8-4131-B209-77503CA8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F65-E78F-4569-8E40-F41775FA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90A3E-AE51-4564-BD33-FBE60FD9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B452E-D2F2-4AC0-B352-0045C264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6A867-8E8C-4E78-810A-0D210BBA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7D63BB-4A6C-416B-A563-73998599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47F65-4B2B-4CAD-9BC8-B00603E2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61543-410B-4116-B486-FBF54955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C49BD-AB86-4928-A7D2-157479DD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072CF-4A98-4F34-898E-8768E6BC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133F2-4E4F-40E1-B0AF-C8556593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454FA-19BA-47A5-833A-1A85C80A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0F6-B161-46E7-999D-E78BCB8A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2BE6BC-1AB9-49F0-9C4D-5D62B0CC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A238-4B98-4141-8286-AD971E7E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312-C0C8-4DA0-A46B-0D3C70A7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831-3DEB-44BA-8E6F-E4DD5704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99E9-C7BB-42E9-B6E5-9106DFBED5DE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A5B0-D974-4C0D-A484-7AF6F5C91B28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74F2-2111-4037-8CE8-A2345525A9B4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7440-8772-4718-863C-AA74E2AD14BB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C785-6048-45AD-B440-F22ACA6CE28E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526D-AC79-42C3-882B-3D3A9D698104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621A-D3A9-40A5-B14E-AF23EEAE6C58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63ED-BD5C-4754-9F2A-36F10C6D8779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5ADD-7A75-4198-B055-621AB8D15BE3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773E-5788-4CE1-ADFC-8AE63719D7D6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75f6d"/>
                </a:solidFill>
                <a:latin typeface="Century Schoolbook"/>
              </a:rPr>
              <a:t>ENGAGEMENT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TEACHER AC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STUDENT ACTIV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TextBox 9"/>
          <p:cNvSpPr/>
          <p:nvPr/>
        </p:nvSpPr>
        <p:spPr>
          <a:xfrm>
            <a:off x="500040" y="64296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Develops shared norms, Determines readiness for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learning, • Establishes learning goals, Develops metacognitive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capa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75f6d"/>
                </a:solidFill>
                <a:latin typeface="Century Schoolbook"/>
              </a:rPr>
              <a:t>EXPLORE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TEACHER AC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STUDENT ACTIV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500040" y="6429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Prompts inquiry, Structures inquiry, Maintains session moment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75f6d"/>
                </a:solidFill>
                <a:latin typeface="Century Schoolbook"/>
              </a:rPr>
              <a:t>EXPLAIN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TEACHER AC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STUDENT ACTIV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500040" y="6429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Presents new content, Develops languag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Literacy, Strengthens conn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75f6d"/>
                </a:solidFill>
                <a:latin typeface="Century Schoolbook"/>
              </a:rPr>
              <a:t>ELABORATE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TEACHER AC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STUDENT ACTIV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TextBox 9"/>
          <p:cNvSpPr/>
          <p:nvPr/>
        </p:nvSpPr>
        <p:spPr>
          <a:xfrm>
            <a:off x="500040" y="6429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Facilitates substantive conversation, Cultivates higher order thinking, Monitors prog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75f6d"/>
                </a:solidFill>
                <a:latin typeface="Century Schoolbook"/>
              </a:rPr>
              <a:t>EVALUATE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TEACHER AC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STUDENT ACTIV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500040" y="6429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Assesses performance against standards, Facilitates student self assess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06:21:39Z</dcterms:created>
  <dc:creator>Paul Jones</dc:creator>
  <dc:description/>
  <dc:language>en-US</dc:language>
  <cp:lastModifiedBy>Paul Jones</cp:lastModifiedBy>
  <dcterms:modified xsi:type="dcterms:W3CDTF">2010-03-19T01:28:30Z</dcterms:modified>
  <cp:revision>157</cp:revision>
  <dc:subject/>
  <dc:title>ENGAGEMENT:   • Determines readiness for learning • Establishes learning goals • Develops metacognitive capacity</dc:title>
</cp:coreProperties>
</file>